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E20B-47B0-4A47-9BB2-38DB41969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AC59-DCC4-45F2-B5FF-DDD22DC65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3E44-A7F1-4530-BD98-0879CF6B1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344B-8D0C-40AC-A511-3D0803DD5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8A92-A30D-466A-98A0-88FE6671E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FECA-6BC7-424F-9042-4AC5C7605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67E0-118A-42A4-A28F-BF4C4FEB0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FF1F-98E9-4416-92E3-8EDE08C23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2960-3BA3-445B-ABFC-F03F1484F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857F-C790-45E0-AB00-6D464EE00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65E8-B1CA-4928-B0E4-B5879F2E9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ACF5-7D17-427A-9C24-BC340452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6DA45-F628-4ACA-A461-29C019D7EA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video" Target="file:///tmp/home/.config/libreoffice/4/user/gallery/Recorded%20Sound1" TargetMode="External"/><Relationship Id="rId3" Type="http://schemas.microsoft.com/office/2007/relationships/media" Target="file:///tmp/home/.config/libreoffice/4/user/gallery/Recorded%20Sound1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2.png"/><Relationship Id="rId4" Type="http://schemas.openxmlformats.org/officeDocument/2006/relationships/video" Target="file:///tmp/home/.config/libreoffice/4/user/gallery/Recorded%20Sound4" TargetMode="External"/><Relationship Id="rId5" Type="http://schemas.microsoft.com/office/2007/relationships/media" Target="file:///tmp/home/.config/libreoffice/4/user/gallery/Recorded%20Sound4" TargetMode="Externa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NRY ‘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EEDOM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CHRIS EP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429680" y="514368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839080" y="3352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NR’S WAS A SL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58000" y="43434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8000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NRY HAD A BROTHER AND SI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86600" y="5094360"/>
            <a:ext cx="2057400" cy="1763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9000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66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NRY WORKED  H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2000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5000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NRY’S MASTER D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6000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 SON REPLACED H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14000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3T18:10:36Z</dcterms:created>
  <dc:creator>test</dc:creator>
  <dc:description/>
  <dc:language>en-US</dc:language>
  <cp:lastModifiedBy>test</cp:lastModifiedBy>
  <dcterms:modified xsi:type="dcterms:W3CDTF">2011-03-30T18:08:47Z</dcterms:modified>
  <cp:revision>3</cp:revision>
  <dc:subject/>
  <dc:title>Slide 1</dc:title>
</cp:coreProperties>
</file>